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153280" y="0"/>
            <a:ext cx="990720" cy="838080"/>
          </a:xfrm>
          <a:prstGeom prst="rect">
            <a:avLst/>
          </a:prstGeom>
          <a:solidFill>
            <a:srgbClr val="475a8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75a8d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RDF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 Cheung, Ph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le Center for Medical Infor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343400" y="4724280"/>
            <a:ext cx="611280" cy="685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273040" y="6095880"/>
            <a:ext cx="47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HALS 2010: HCLS Tutorial, Boston, February 23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RDF representation of gene expression l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315200" cy="14176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7315200" cy="11048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7315200" cy="9381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04920" y="10666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lis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2514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li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81160" y="3836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lis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1880" y="567540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Gene-specific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1335240"/>
            <a:ext cx="1744560" cy="1118880"/>
          </a:xfrm>
          <a:prstGeom prst="rect">
            <a:avLst/>
          </a:prstGeom>
          <a:noFill/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2795760"/>
            <a:ext cx="4419360" cy="990360"/>
          </a:xfrm>
          <a:prstGeom prst="rect">
            <a:avLst/>
          </a:prstGeom>
          <a:noFill/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4114800"/>
            <a:ext cx="2714400" cy="1468440"/>
          </a:xfrm>
          <a:prstGeom prst="rect">
            <a:avLst/>
          </a:prstGeom>
          <a:noFill/>
          <a:ln w="2844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71880" y="1295280"/>
            <a:ext cx="4568760" cy="1195560"/>
          </a:xfrm>
          <a:prstGeom prst="rect">
            <a:avLst/>
          </a:prstGeom>
          <a:noFill/>
          <a:ln w="2844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2743200"/>
            <a:ext cx="3016080" cy="1095480"/>
          </a:xfrm>
          <a:prstGeom prst="rect">
            <a:avLst/>
          </a:prstGeom>
          <a:noFill/>
          <a:ln w="2844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44800" y="4079880"/>
            <a:ext cx="4718160" cy="1542960"/>
          </a:xfrm>
          <a:prstGeom prst="rect">
            <a:avLst/>
          </a:prstGeom>
          <a:noFill/>
          <a:ln w="2844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81080" y="1219320"/>
            <a:ext cx="1143000" cy="1371600"/>
          </a:xfrm>
          <a:prstGeom prst="rect">
            <a:avLst/>
          </a:prstGeom>
          <a:noFill/>
          <a:ln w="284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4400" y="590220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Sample-specific gene expressio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6127920"/>
            <a:ext cx="344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dc765"/>
                </a:solidFill>
                <a:latin typeface="Arial"/>
              </a:rPr>
              <a:t>Aggregated gene expressio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RDF 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/>
          <p:nvPr/>
        </p:nvSpPr>
        <p:spPr>
          <a:xfrm>
            <a:off x="4740120" y="1436760"/>
            <a:ext cx="609840" cy="380880"/>
          </a:xfrm>
          <a:prstGeom prst="ellipse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gen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349960" y="1371600"/>
            <a:ext cx="898560" cy="217440"/>
          </a:xfrm>
          <a:prstGeom prst="line">
            <a:avLst/>
          </a:prstGeom>
          <a:ln w="93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0" y="213372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49960" y="1665360"/>
            <a:ext cx="1143000" cy="304560"/>
          </a:xfrm>
          <a:prstGeom prst="line">
            <a:avLst/>
          </a:prstGeom>
          <a:ln w="93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31200" y="158904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73640" y="1741320"/>
            <a:ext cx="1066680" cy="762120"/>
          </a:xfrm>
          <a:prstGeom prst="line">
            <a:avLst/>
          </a:prstGeom>
          <a:ln w="93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4120" y="12193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prob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1981080"/>
            <a:ext cx="9144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62320" y="3962520"/>
            <a:ext cx="4572000" cy="685800"/>
          </a:xfrm>
          <a:prstGeom prst="ellipse">
            <a:avLst/>
          </a:prstGeom>
          <a:noFill/>
          <a:ln w="2844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Expression_value_for_gene1_sample1_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629400" y="3885840"/>
            <a:ext cx="990720" cy="228600"/>
          </a:xfrm>
          <a:prstGeom prst="line">
            <a:avLst/>
          </a:prstGeom>
          <a:ln w="93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3733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4495680"/>
            <a:ext cx="1143000" cy="152640"/>
          </a:xfrm>
          <a:prstGeom prst="line">
            <a:avLst/>
          </a:prstGeom>
          <a:ln w="93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81680" y="426708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04280" y="36687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503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603200" y="4506840"/>
            <a:ext cx="8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Sign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62320" y="5181480"/>
            <a:ext cx="4572000" cy="685800"/>
          </a:xfrm>
          <a:prstGeom prst="ellipse">
            <a:avLst/>
          </a:prstGeom>
          <a:noFill/>
          <a:ln w="2844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Expression_value_for_gene1_sample1_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629400" y="5181480"/>
            <a:ext cx="1066680" cy="152640"/>
          </a:xfrm>
          <a:prstGeom prst="line">
            <a:avLst/>
          </a:prstGeom>
          <a:ln w="93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0" y="5029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553080" y="5715000"/>
            <a:ext cx="1143000" cy="152280"/>
          </a:xfrm>
          <a:prstGeom prst="line">
            <a:avLst/>
          </a:prstGeom>
          <a:ln w="93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548640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96800" y="502920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02840" y="57261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eb80a"/>
                </a:solidFill>
                <a:latin typeface="Arial"/>
              </a:rPr>
              <a:t>Detec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3581280"/>
            <a:ext cx="6781680" cy="2667240"/>
          </a:xfrm>
          <a:prstGeom prst="rect">
            <a:avLst/>
          </a:prstGeom>
          <a:noFill/>
          <a:ln w="2844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362320" y="16002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13880" y="16002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in_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92400" y="1295280"/>
            <a:ext cx="18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orhinal Cortex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114300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20" y="203364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064520" y="2133720"/>
            <a:ext cx="14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_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70040" y="121932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225871_a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77840" y="182880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STEAP2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352680" y="2209680"/>
            <a:ext cx="648000" cy="1371600"/>
          </a:xfrm>
          <a:custGeom>
            <a:avLst/>
            <a:gdLst/>
            <a:ahLst/>
            <a:rect l="l" t="t" r="r" b="b"/>
            <a:pathLst>
              <a:path w="408" h="864">
                <a:moveTo>
                  <a:pt x="0" y="0"/>
                </a:moveTo>
                <a:cubicBezTo>
                  <a:pt x="88" y="68"/>
                  <a:pt x="176" y="136"/>
                  <a:pt x="240" y="240"/>
                </a:cubicBezTo>
                <a:cubicBezTo>
                  <a:pt x="304" y="344"/>
                  <a:pt x="360" y="520"/>
                  <a:pt x="384" y="624"/>
                </a:cubicBezTo>
                <a:cubicBezTo>
                  <a:pt x="408" y="728"/>
                  <a:pt x="396" y="796"/>
                  <a:pt x="384" y="86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78240" y="1752480"/>
            <a:ext cx="547920" cy="1859040"/>
          </a:xfrm>
          <a:custGeom>
            <a:avLst/>
            <a:gdLst/>
            <a:ahLst/>
            <a:rect l="l" t="t" r="r" b="b"/>
            <a:pathLst>
              <a:path w="352" h="1200">
                <a:moveTo>
                  <a:pt x="352" y="0"/>
                </a:moveTo>
                <a:cubicBezTo>
                  <a:pt x="260" y="76"/>
                  <a:pt x="168" y="152"/>
                  <a:pt x="112" y="288"/>
                </a:cubicBezTo>
                <a:cubicBezTo>
                  <a:pt x="56" y="424"/>
                  <a:pt x="32" y="672"/>
                  <a:pt x="16" y="816"/>
                </a:cubicBezTo>
                <a:cubicBezTo>
                  <a:pt x="0" y="960"/>
                  <a:pt x="16" y="1104"/>
                  <a:pt x="16" y="1152"/>
                </a:cubicBezTo>
                <a:cubicBezTo>
                  <a:pt x="16" y="1200"/>
                  <a:pt x="16" y="1152"/>
                  <a:pt x="16" y="110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84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09920" y="3494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64640" y="2286000"/>
            <a:ext cx="278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six transmembrane epithel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91a7"/>
                </a:solidFill>
                <a:latin typeface="Arial"/>
              </a:rPr>
              <a:t>antigen of prostate 2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447920" y="2362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26668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3880" y="28195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Live to 100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791320" cy="22734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1371240" y="3961800"/>
            <a:ext cx="6633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ink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oldest surviving species of tree, has been traced back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is one of the most widely studied plants. The leaf of the ginkgo tree is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a human brain, and some believe this is why, in Asia, it has always had a repu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benefiting the mental processes. 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windling memory and decreased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s largely caused by decreased blood flow to the brain and loss of brain cel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as been confirmed to boost circulation to the brain and other organs, impro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mory and cognitive func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Additionally, ginkgo is used far and wide as a longe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nic in Asia and Europe. The best-known and most commonly available form of gink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 as teas and herbal extracts, but ginkgo nut, used in the culinary traditions of A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ltures, also has therapeutic properties and is also said to strengthen lung fun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370520" y="3429000"/>
            <a:ext cx="372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eatured Blog (from Ask Dr. Mao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eling like the absent-minded professor lately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TCM project milest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on between BioRDF and L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per was recently submitted to BMC Chinese Medicine (Thematic Series: Semantic Web for Chinese Medic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wald et al. Integrating findings from traditional medicine into modern pharmaceutical research through semantic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ing a variety of data involving herbs that have been studied in terms of their potential therapeutic effects on de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ources: TCMGeneDIT, PubMed, DBPedia, PharmGK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Web technologies: aTag (including an aTAG explorer), RDFa, and SPARQL end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Future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te microarray data with other types of data including data stored in HCLS KB’s (e.g., pathway data and disease/phenotype d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a range of federated qu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use cases for shared names and RDB-RDF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s (e.g., iPhone appl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and the TCM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L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ie Steph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. Scott Marsh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ic Prud’homm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H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eLab (P01 DC0473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science Microarray Consortium (U24 NS051869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943600" cy="399888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5257800" y="4114800"/>
            <a:ext cx="3044160" cy="1219320"/>
            <a:chOff x="5257800" y="4114800"/>
            <a:chExt cx="3044160" cy="1219320"/>
          </a:xfrm>
        </p:grpSpPr>
        <p:pic>
          <p:nvPicPr>
            <p:cNvPr id="498" name="" descr=""/>
            <p:cNvPicPr/>
            <p:nvPr/>
          </p:nvPicPr>
          <p:blipFill>
            <a:blip r:embed="rId2"/>
            <a:stretch/>
          </p:blipFill>
          <p:spPr>
            <a:xfrm>
              <a:off x="5257800" y="4114800"/>
              <a:ext cx="976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6309360" y="4419720"/>
              <a:ext cx="199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i (Hoi) Cheu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5 years ag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257800" y="5486400"/>
            <a:ext cx="3060000" cy="1371600"/>
            <a:chOff x="5257800" y="5486400"/>
            <a:chExt cx="3060000" cy="13716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257800" y="5486400"/>
              <a:ext cx="8906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388920" y="5903640"/>
              <a:ext cx="192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i (Hoi) Che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more recen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257800" y="2514600"/>
            <a:ext cx="2999520" cy="1371600"/>
            <a:chOff x="5257800" y="2514600"/>
            <a:chExt cx="2999520" cy="1371600"/>
          </a:xfrm>
        </p:grpSpPr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257800" y="2514600"/>
              <a:ext cx="9907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6328440" y="2743200"/>
              <a:ext cx="192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i (Hui) Che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 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029200" y="1447920"/>
            <a:ext cx="3420360" cy="896760"/>
            <a:chOff x="5029200" y="1447920"/>
            <a:chExt cx="3420360" cy="896760"/>
          </a:xfrm>
        </p:grpSpPr>
        <p:pic>
          <p:nvPicPr>
            <p:cNvPr id="507" name="" descr=""/>
            <p:cNvPicPr/>
            <p:nvPr/>
          </p:nvPicPr>
          <p:blipFill>
            <a:blip r:embed="rId5"/>
            <a:stretch/>
          </p:blipFill>
          <p:spPr>
            <a:xfrm>
              <a:off x="5029200" y="1447920"/>
              <a:ext cx="32000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6173280" y="1447920"/>
              <a:ext cx="22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’m NOT a compan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31000" y="5257800"/>
            <a:ext cx="401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most recent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person “Kei Hoi Cheu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Keyword-based query vs. Knowledge-based query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(Syntactic Web vs. Semantic We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urrent BioRDF particip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i Cheung (Yale Univers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ena Deus (University of Texa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 Doherty (Brainstag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 Frost (Vector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. Scott Marshall (University of Amsterda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hael Miller (Teran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rian Paschke (Freie Universitat Berli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ic Prud'hommeaux (W3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ya Sahoo (Wright State Univers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thias Samwald (DERI and Konrad Lorenz Institut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n Zhao (Oxford Univers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urrent ta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Fede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integration of neuroscience microarray data and related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sion of previous query federation work (Cheung et al. A journey to semantic web query federation in the life sciences. BMC Bioinformatics. 10(Suppl 10):S10,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itional Chinese Medicine (TC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on with L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ing TCM data and other types of data including drug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ry federation in the context of neuroscience microarray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Microarray Gene expression in neuro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28600" y="99072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 expression may be an indicator of how well someone is a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ew England Centenarian Stud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microarray technology allows scientists to scan tens of thousands of genes from a single sample at a time and then link them to specific biological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1612800" cy="2133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1828800" cy="11905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8305920" y="449568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Microarray examples/use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H Neuroscience Microarray Consortium and EBI ArrayEx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DF representation of experiment metadata and gene lists including prov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-community collaboration: semantic web, ontology, neuroscience, microarray commun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Representative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ease (e.g., AD, P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uron (e.g., dopamine neuro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in region (e.g., hippocampus, posterior cingulate cortex, visual cortex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in function (e.g., unimodal and heteromodal sensory associatio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sm (e.g., huma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imental factor (e.g., normal vs. A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ple extraction method (e.g., laser-capture microdissectio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ins (e.g., NFT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s (e.g., gene lis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logical process (e.g., energy metabolism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ular component (e.g., mitochondrial electron transport chai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 (e.g., o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ease state (e.g., mild vs. seve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se existing ontological terms and relationships (e.g., NIFSTD and OBO 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using Provenir ontology and a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DF representation of gene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286000" y="3886200"/>
            <a:ext cx="32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35:17Z</dcterms:created>
  <dc:creator>sstephens1</dc:creator>
  <dc:description/>
  <dc:language>en-US</dc:language>
  <cp:lastModifiedBy>KEI CHEUNG</cp:lastModifiedBy>
  <dcterms:modified xsi:type="dcterms:W3CDTF">2010-02-24T02:31:20Z</dcterms:modified>
  <cp:revision>22</cp:revision>
  <dc:subject/>
  <dc:title>Slide 1</dc:title>
</cp:coreProperties>
</file>